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3905-E84F-4E2D-8AF2-605B4A40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3900-0275-4A32-8A71-B56FBCB6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49B5-288D-4173-B5FB-49E425E6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FAA-F1F0-41CC-A8F1-2375EDA7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9204-CD52-4AD1-9552-3230DC4F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0673-873F-47D1-B51C-00044B77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00EE-200F-436D-A109-F3461B41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2346-29E4-48A8-BCFF-643EE44B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BFF0-AA14-4B35-82FA-8A24F71A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1DBC-3B27-49D2-9D6F-E0D4E93E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A5E0-75EC-4325-A7F9-84C4B763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4DAE-6369-4B8A-B95F-18792223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C40E-0FBF-483C-8C6A-BDCC1C6B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2CA7-EA11-463F-BE85-9554D0DC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75DF-5588-4679-ADC3-54C6B48A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FF7B-ED2F-41C2-9DBF-8B6BB306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2777-93A6-4F07-A7C6-59D0F786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AAE7-6F1E-4688-8FD2-251FEAD3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0DF4-E349-4347-8F7C-06387EDF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4E64-2269-405B-A726-4475FB6D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FECF-739F-4728-B1A2-4A59437A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5EEF-1C0F-4538-8137-D7C3B39C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FC0-4B34-4639-8EA6-911BF95F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2080-7FD0-43AE-B3E4-EEC2918C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EB2B-D2F4-4E0D-BB98-A1708E376D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F83F-8562-47B7-9AD2-4F07506DC06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684216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МИНИСТЕРСТВО СПОРТА, ТУРИЗМА И МОЛОДЕЖНОЙ ПОЛИТИКИ РОССИЙСКОЙ ФЕДЕРАЦИИ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ВСЕРОССИЙСКАЯ ФЕДЕРАЦИЯ ЛЕГКОЙ АТЛЕТИКИ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ККО ОГО ВФСО "ДИНАМО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ДЕПАРТАМЕНТ ПО ФИЗИЧЕСКОЙ КУЛЬТУРЕ И СПОРТУ КРАСНОДАРСКОГО КРАЯ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сероссийские соревнования по метаниям памяти "Заслуженного работника физической культуры Российской федерации"  А. Лун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7-18.02.2012 г.                                                                                         г. Адлер        с/к «Ю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»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сероссийские соревнования по метаниям памяти "Заслуженного работника физической культуры Российской федерации"  А. Лунева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719360"/>
          <a:ext cx="7615080" cy="4138560"/>
        </p:xfrm>
        <a:graphic>
          <a:graphicData uri="http://schemas.openxmlformats.org/drawingml/2006/table">
            <a:tbl>
              <a:tblPr/>
              <a:tblGrid>
                <a:gridCol w="3565440"/>
                <a:gridCol w="1710000"/>
                <a:gridCol w="658800"/>
                <a:gridCol w="168084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. 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Н. Рабоч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Б. Мор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д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Крохмал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роп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мо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А. Рябин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ян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 коп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А. Жу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ла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службы инвентаря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Н. Коптю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ий Нов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2-02-18T11:57:03Z</cp:lastPrinted>
  <dcterms:modified xsi:type="dcterms:W3CDTF">2012-02-18T12:17:44Z</dcterms:modified>
  <cp:revision>43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